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5820-38F6-4738-B004-12000D933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BE4E-E972-4ABC-B667-BB85E0E99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AA67-88B0-435D-9679-DFBFC1167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1BD6-7FB1-4495-99AA-42E963ECA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24E54-5CEA-450C-89AE-EBEA671B4E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64C8A-DE66-4B80-8D11-4FD95F1DD0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14B30-FA50-48EE-8162-1BAEF04DB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D364-A5DC-4D15-BE04-984EF083F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6131-F16F-447A-A287-0B33ADE662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2235-8458-417B-ADCA-2157BF89A5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3EFD1-5E9E-408E-B68C-0BFA9C7A8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98BB-7164-4827-8D1C-CBB020338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D6669-9E96-4AA8-B048-3B88CC2CA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20602-A535-4AF9-8AC7-446F3D335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131CD-354E-4EF7-B0F3-4A1E2208F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C1F3E-AA1C-404A-B8E5-06B7791DE7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1C5B-8A1B-4C22-B2B9-3BDD4C5ED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5AB9-ACF1-4F42-B20E-49A92C6AF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F646F-8E5F-417F-9B0E-F3F911791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E2CC-C0AA-4DEC-B135-473EB2881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DC80-9590-4C9A-A2D8-2EDA76521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0BD7-04FD-4706-96F7-823889355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BE73-DA80-4201-AC4B-95E752815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8BF8-B81A-46CA-B4A8-C525BBF61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057400" y="624852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B52-4C16-406D-B471-7A78773D5B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2096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AD2B-8ECE-4E0F-AD58-75A64ABCBD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048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Univers"/>
              </a:rPr>
              <a:t>World of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6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0" lang="en-US" sz="4400" spc="-1" strike="noStrike">
                <a:solidFill>
                  <a:srgbClr val="ff0033"/>
                </a:solidFill>
                <a:latin typeface="Univers"/>
              </a:rPr>
              <a:t>Zumdahl  Zumdahl  DeCo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990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990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9:  The atmospheric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oncentration over the past 1000 yea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Zumdahl10_09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922B-4048-4959-A8FF-33E336FA5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10:  Comparing the entropies of ice and ste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Zumdahl10_10" descr=""/>
          <p:cNvPicPr/>
          <p:nvPr/>
        </p:nvPicPr>
        <p:blipFill>
          <a:blip r:embed="rId1"/>
          <a:stretch/>
        </p:blipFill>
        <p:spPr>
          <a:xfrm>
            <a:off x="1957320" y="533520"/>
            <a:ext cx="52293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53DD-BB69-41C2-8820-CD64F9A4D2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33"/>
                </a:solidFill>
                <a:latin typeface="Univers"/>
              </a:rPr>
              <a:t>Chapter 10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Energ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2:  Equal masses of hot and cold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Zumdahl10_02" descr=""/>
          <p:cNvPicPr/>
          <p:nvPr/>
        </p:nvPicPr>
        <p:blipFill>
          <a:blip r:embed="rId1"/>
          <a:stretch/>
        </p:blipFill>
        <p:spPr>
          <a:xfrm>
            <a:off x="1295280" y="627120"/>
            <a:ext cx="647712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20C8-5761-4DD2-9642-22300C3BFD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3:  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 molecules in hot and cold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Zumdahl10_03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32448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FFEC-DFDF-4ECA-B217-78E78A553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4:  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 molecules in same temperature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Zumdahl10_0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07E7-F97A-470A-AEA4-14C76847B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5:  The energy changes accompanying the burning of a matc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Zumdahl10_05" descr=""/>
          <p:cNvPicPr/>
          <p:nvPr/>
        </p:nvPicPr>
        <p:blipFill>
          <a:blip r:embed="rId1"/>
          <a:stretch/>
        </p:blipFill>
        <p:spPr>
          <a:xfrm>
            <a:off x="304920" y="1455840"/>
            <a:ext cx="8534160" cy="39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F0AD-366E-4FFA-A885-596003C0D1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6:  A coffee-cup calorime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Zumdahl10_06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70836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0720-3B1D-42A7-BE6A-8EAB82A6A8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7:  Energy sources used in the United Sta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Zumdahl10_07" descr=""/>
          <p:cNvPicPr/>
          <p:nvPr/>
        </p:nvPicPr>
        <p:blipFill>
          <a:blip r:embed="rId1"/>
          <a:stretch/>
        </p:blipFill>
        <p:spPr>
          <a:xfrm>
            <a:off x="304920" y="1730520"/>
            <a:ext cx="8610480" cy="34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A2A2-205F-4AD5-908C-1CCCF0C1E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8:  The earth’s atmosp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Zumdahl10_08" descr=""/>
          <p:cNvPicPr/>
          <p:nvPr/>
        </p:nvPicPr>
        <p:blipFill>
          <a:blip r:embed="rId1"/>
          <a:stretch/>
        </p:blipFill>
        <p:spPr>
          <a:xfrm>
            <a:off x="304920" y="1116000"/>
            <a:ext cx="853416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C5D8-875C-4193-AD5B-B6293F795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9:36:22Z</dcterms:created>
  <dc:creator>HMCO</dc:creator>
  <dc:description/>
  <dc:language>en-US</dc:language>
  <cp:lastModifiedBy>Cheryl</cp:lastModifiedBy>
  <dcterms:modified xsi:type="dcterms:W3CDTF">2005-12-20T09:06:38Z</dcterms:modified>
  <cp:revision>23</cp:revision>
  <dc:subject/>
  <dc:title>Figure 1.1 The various parts of the scientific method.</dc:title>
</cp:coreProperties>
</file>